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0.png" ContentType="image/png"/>
  <Override PartName="/ppt/media/image42.wmf" ContentType="image/x-wmf"/>
  <Override PartName="/ppt/media/image8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24.png" ContentType="image/png"/>
  <Override PartName="/ppt/media/image64.wmf" ContentType="image/x-wmf"/>
  <Override PartName="/ppt/media/image20.png" ContentType="image/png"/>
  <Override PartName="/ppt/media/image60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59.wmf" ContentType="image/x-wmf"/>
  <Override PartName="/ppt/media/image61.wmf" ContentType="image/x-wmf"/>
  <Override PartName="/ppt/media/image21.png" ContentType="image/png"/>
  <Override PartName="/ppt/media/image77.png" ContentType="image/png"/>
  <Override PartName="/ppt/media/image76.wmf" ContentType="image/x-wmf"/>
  <Override PartName="/ppt/media/image36.png" ContentType="image/png"/>
  <Override PartName="/ppt/media/image58.wmf" ContentType="image/x-wmf"/>
  <Override PartName="/ppt/media/image75.png" ContentType="image/png"/>
  <Override PartName="/ppt/media/image57.wmf" ContentType="image/x-wmf"/>
  <Override PartName="/ppt/media/image74.png" ContentType="image/png"/>
  <Override PartName="/ppt/media/image56.wmf" ContentType="image/x-wmf"/>
  <Override PartName="/ppt/media/image73.png" ContentType="image/png"/>
  <Override PartName="/ppt/media/image55.wmf" ContentType="image/x-wmf"/>
  <Override PartName="/ppt/media/image72.png" ContentType="image/png"/>
  <Override PartName="/ppt/media/image54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wmf" ContentType="image/x-wmf"/>
  <Override PartName="/ppt/media/image2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6.png" ContentType="image/png"/>
  <Override PartName="/ppt/media/image18.png" ContentType="image/png"/>
  <Override PartName="/ppt/media/image40.wmf" ContentType="image/x-wmf"/>
  <Override PartName="/ppt/media/image41.wmf" ContentType="image/x-wmf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957-699F-419E-915F-B0C68626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286-2116-40F6-86E2-75C0EE50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BB9-7B96-40D1-B1EA-4EC8C6AF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7E0-E343-4B5D-AFCE-C6CDFE26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F6C-6039-43B9-8EC7-C474CA39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C09-5D1F-4576-B72F-8B15E337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1D0-5265-42DC-9050-ADB496E0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D5B-0CA8-4D9E-A38B-D9ABEEFC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305-78E5-42EA-A287-10D0E901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9BD-22A4-42D3-8B75-F9377AD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829-6579-4995-874C-2DF6AA03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7CF-268F-4301-BCC4-D35860A1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48C-7C95-4780-A3C1-76B019149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2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4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57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58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9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0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1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62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63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64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65.wmf"/><Relationship Id="rId3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3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6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3" name="AutoShape 508"/>
          <p:cNvGrpSpPr/>
          <p:nvPr/>
        </p:nvGrpSpPr>
        <p:grpSpPr>
          <a:xfrm>
            <a:off x="487440" y="1054080"/>
            <a:ext cx="8169120" cy="2176560"/>
            <a:chOff x="487440" y="1054080"/>
            <a:chExt cx="8169120" cy="2176560"/>
          </a:xfrm>
        </p:grpSpPr>
        <p:pic>
          <p:nvPicPr>
            <p:cNvPr id="44" name="AutoShape 508" descr=""/>
            <p:cNvPicPr/>
            <p:nvPr/>
          </p:nvPicPr>
          <p:blipFill>
            <a:blip r:embed="rId2"/>
            <a:stretch/>
          </p:blipFill>
          <p:spPr>
            <a:xfrm>
              <a:off x="487440" y="1054080"/>
              <a:ext cx="81691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同侧圆角矩形 7"/>
          <p:cNvSpPr/>
          <p:nvPr/>
        </p:nvSpPr>
        <p:spPr>
          <a:xfrm flipV="1">
            <a:off x="495360" y="2468160"/>
            <a:ext cx="8153280" cy="758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95360" y="1433520"/>
            <a:ext cx="81532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的体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1" name="AutoShape 508"/>
          <p:cNvGrpSpPr/>
          <p:nvPr/>
        </p:nvGrpSpPr>
        <p:grpSpPr>
          <a:xfrm>
            <a:off x="450720" y="974880"/>
            <a:ext cx="8248680" cy="2255760"/>
            <a:chOff x="450720" y="974880"/>
            <a:chExt cx="8248680" cy="2255760"/>
          </a:xfrm>
        </p:grpSpPr>
        <p:pic>
          <p:nvPicPr>
            <p:cNvPr id="52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0720" y="974880"/>
              <a:ext cx="82486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55" name="椭圆 40"/>
          <p:cNvGrpSpPr/>
          <p:nvPr/>
        </p:nvGrpSpPr>
        <p:grpSpPr>
          <a:xfrm>
            <a:off x="268200" y="1298520"/>
            <a:ext cx="451080" cy="444600"/>
            <a:chOff x="268200" y="1298520"/>
            <a:chExt cx="451080" cy="444600"/>
          </a:xfrm>
        </p:grpSpPr>
        <p:pic>
          <p:nvPicPr>
            <p:cNvPr id="56" name="椭圆 40" descr=""/>
            <p:cNvPicPr/>
            <p:nvPr/>
          </p:nvPicPr>
          <p:blipFill>
            <a:blip r:embed="rId8"/>
            <a:stretch/>
          </p:blipFill>
          <p:spPr>
            <a:xfrm>
              <a:off x="268200" y="129852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椭圆 41"/>
          <p:cNvGrpSpPr/>
          <p:nvPr/>
        </p:nvGrpSpPr>
        <p:grpSpPr>
          <a:xfrm>
            <a:off x="268200" y="1938240"/>
            <a:ext cx="451080" cy="444600"/>
            <a:chOff x="268200" y="1938240"/>
            <a:chExt cx="451080" cy="444600"/>
          </a:xfrm>
        </p:grpSpPr>
        <p:pic>
          <p:nvPicPr>
            <p:cNvPr id="59" name="椭圆 41" descr=""/>
            <p:cNvPicPr/>
            <p:nvPr/>
          </p:nvPicPr>
          <p:blipFill>
            <a:blip r:embed="rId9"/>
            <a:stretch/>
          </p:blipFill>
          <p:spPr>
            <a:xfrm>
              <a:off x="268200" y="193824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椭圆 42"/>
          <p:cNvGrpSpPr/>
          <p:nvPr/>
        </p:nvGrpSpPr>
        <p:grpSpPr>
          <a:xfrm>
            <a:off x="268200" y="2577960"/>
            <a:ext cx="451080" cy="446400"/>
            <a:chOff x="268200" y="2577960"/>
            <a:chExt cx="451080" cy="446400"/>
          </a:xfrm>
        </p:grpSpPr>
        <p:pic>
          <p:nvPicPr>
            <p:cNvPr id="62" name="椭圆 42" descr=""/>
            <p:cNvPicPr/>
            <p:nvPr/>
          </p:nvPicPr>
          <p:blipFill>
            <a:blip r:embed="rId10"/>
            <a:stretch/>
          </p:blipFill>
          <p:spPr>
            <a:xfrm>
              <a:off x="268200" y="257796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椭圆 43"/>
          <p:cNvGrpSpPr/>
          <p:nvPr/>
        </p:nvGrpSpPr>
        <p:grpSpPr>
          <a:xfrm>
            <a:off x="8418600" y="1298520"/>
            <a:ext cx="450720" cy="444600"/>
            <a:chOff x="8418600" y="1298520"/>
            <a:chExt cx="450720" cy="444600"/>
          </a:xfrm>
        </p:grpSpPr>
        <p:pic>
          <p:nvPicPr>
            <p:cNvPr id="65" name="椭圆 43" descr=""/>
            <p:cNvPicPr/>
            <p:nvPr/>
          </p:nvPicPr>
          <p:blipFill>
            <a:blip r:embed="rId11"/>
            <a:stretch/>
          </p:blipFill>
          <p:spPr>
            <a:xfrm>
              <a:off x="8418600" y="129852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椭圆 44"/>
          <p:cNvGrpSpPr/>
          <p:nvPr/>
        </p:nvGrpSpPr>
        <p:grpSpPr>
          <a:xfrm>
            <a:off x="8418600" y="1938240"/>
            <a:ext cx="450720" cy="444600"/>
            <a:chOff x="8418600" y="1938240"/>
            <a:chExt cx="450720" cy="444600"/>
          </a:xfrm>
        </p:grpSpPr>
        <p:pic>
          <p:nvPicPr>
            <p:cNvPr id="68" name="椭圆 44" descr=""/>
            <p:cNvPicPr/>
            <p:nvPr/>
          </p:nvPicPr>
          <p:blipFill>
            <a:blip r:embed="rId12"/>
            <a:stretch/>
          </p:blipFill>
          <p:spPr>
            <a:xfrm>
              <a:off x="8418600" y="193824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椭圆 45"/>
          <p:cNvGrpSpPr/>
          <p:nvPr/>
        </p:nvGrpSpPr>
        <p:grpSpPr>
          <a:xfrm>
            <a:off x="8418600" y="2577960"/>
            <a:ext cx="450720" cy="446400"/>
            <a:chOff x="8418600" y="2577960"/>
            <a:chExt cx="450720" cy="446400"/>
          </a:xfrm>
        </p:grpSpPr>
        <p:pic>
          <p:nvPicPr>
            <p:cNvPr id="71" name="椭圆 45" descr=""/>
            <p:cNvPicPr/>
            <p:nvPr/>
          </p:nvPicPr>
          <p:blipFill>
            <a:blip r:embed="rId13"/>
            <a:stretch/>
          </p:blipFill>
          <p:spPr>
            <a:xfrm>
              <a:off x="8418600" y="257796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4"/>
          <p:cNvSpPr/>
          <p:nvPr/>
        </p:nvSpPr>
        <p:spPr>
          <a:xfrm>
            <a:off x="5002200" y="592200"/>
            <a:ext cx="3527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圆柱和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615960" y="1709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圆柱的体积。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（单位：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cm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1"/>
          <p:cNvGrpSpPr/>
          <p:nvPr/>
        </p:nvGrpSpPr>
        <p:grpSpPr>
          <a:xfrm>
            <a:off x="257040" y="1105200"/>
            <a:ext cx="4784760" cy="642600"/>
            <a:chOff x="257040" y="1105200"/>
            <a:chExt cx="4784760" cy="642600"/>
          </a:xfrm>
        </p:grpSpPr>
        <p:pic>
          <p:nvPicPr>
            <p:cNvPr id="177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257040" y="1308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文本框 23"/>
            <p:cNvSpPr/>
            <p:nvPr/>
          </p:nvSpPr>
          <p:spPr>
            <a:xfrm>
              <a:off x="518760" y="1105200"/>
              <a:ext cx="452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P16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1371600" y="2558880"/>
            <a:ext cx="2057400" cy="158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5867280" y="2303640"/>
            <a:ext cx="2281320" cy="2092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380880" y="4495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8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00.9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065560" y="5181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3²×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69.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615960" y="1709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根圆柱形木料，底面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2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。这根木料的体积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143000" y="3124080"/>
            <a:ext cx="60958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2.8÷3.1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10²×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7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立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跟木料的体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7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1143000" y="190512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填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把圆柱的底面分成许多相等的扇形，然后把圆柱切开，可以拼成一个近似长方体，它的底面积等于圆柱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    　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它的高等于圆柱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它的体积和圆柱的体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柱的体积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　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用字母表示为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6804000" y="2163600"/>
            <a:ext cx="28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合 26"/>
          <p:cNvGrpSpPr/>
          <p:nvPr/>
        </p:nvGrpSpPr>
        <p:grpSpPr>
          <a:xfrm>
            <a:off x="871560" y="1055880"/>
            <a:ext cx="4780080" cy="642600"/>
            <a:chOff x="871560" y="1055880"/>
            <a:chExt cx="4780080" cy="642600"/>
          </a:xfrm>
        </p:grpSpPr>
        <p:pic>
          <p:nvPicPr>
            <p:cNvPr id="190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871560" y="126036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文本框 23"/>
            <p:cNvSpPr/>
            <p:nvPr/>
          </p:nvSpPr>
          <p:spPr>
            <a:xfrm>
              <a:off x="1133280" y="1055880"/>
              <a:ext cx="45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24"/>
          <p:cNvSpPr/>
          <p:nvPr/>
        </p:nvSpPr>
        <p:spPr>
          <a:xfrm>
            <a:off x="6572160" y="292572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底面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9"/>
          <p:cNvSpPr/>
          <p:nvPr/>
        </p:nvSpPr>
        <p:spPr>
          <a:xfrm>
            <a:off x="3252960" y="339732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0"/>
          <p:cNvSpPr/>
          <p:nvPr/>
        </p:nvSpPr>
        <p:spPr>
          <a:xfrm>
            <a:off x="6980400" y="341784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相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1"/>
          <p:cNvSpPr/>
          <p:nvPr/>
        </p:nvSpPr>
        <p:spPr>
          <a:xfrm>
            <a:off x="3003480" y="3871800"/>
            <a:ext cx="15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底面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2"/>
          <p:cNvSpPr/>
          <p:nvPr/>
        </p:nvSpPr>
        <p:spPr>
          <a:xfrm>
            <a:off x="6804000" y="383364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S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9"/>
          <p:cNvSpPr/>
          <p:nvPr/>
        </p:nvSpPr>
        <p:spPr>
          <a:xfrm>
            <a:off x="2124000" y="428616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.14×    ×1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942(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2124000" y="2530440"/>
            <a:ext cx="1501920" cy="15462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1020600" y="981000"/>
            <a:ext cx="7272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求下面圆柱的体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已知圆柱的底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.26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已知圆柱的底面周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.12 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2287440" y="1989000"/>
            <a:ext cx="28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8.26×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4.78(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对象 1"/>
          <p:cNvGraphicFramePr/>
          <p:nvPr/>
        </p:nvGraphicFramePr>
        <p:xfrm>
          <a:off x="4464000" y="1582560"/>
          <a:ext cx="330120" cy="2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4000" y="1582560"/>
                    <a:ext cx="33012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对象 2"/>
          <p:cNvGraphicFramePr/>
          <p:nvPr/>
        </p:nvGraphicFramePr>
        <p:xfrm>
          <a:off x="4459320" y="2022480"/>
          <a:ext cx="3301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对象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9320" y="2022480"/>
                    <a:ext cx="3301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对象 5"/>
          <p:cNvGraphicFramePr/>
          <p:nvPr/>
        </p:nvGraphicFramePr>
        <p:xfrm>
          <a:off x="4848120" y="4332240"/>
          <a:ext cx="482760" cy="29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对象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48120" y="4332240"/>
                    <a:ext cx="48276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对象 6"/>
          <p:cNvGraphicFramePr/>
          <p:nvPr/>
        </p:nvGraphicFramePr>
        <p:xfrm>
          <a:off x="3346560" y="4316400"/>
          <a:ext cx="253800" cy="2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对象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6560" y="4316400"/>
                    <a:ext cx="2538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Box 21"/>
          <p:cNvSpPr/>
          <p:nvPr/>
        </p:nvSpPr>
        <p:spPr>
          <a:xfrm>
            <a:off x="2057400" y="5229360"/>
            <a:ext cx="417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5.12÷3.14÷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(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V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.14×    ×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02.4(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对象 16"/>
          <p:cNvGraphicFramePr/>
          <p:nvPr/>
        </p:nvGraphicFramePr>
        <p:xfrm>
          <a:off x="3556080" y="5791320"/>
          <a:ext cx="25380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" name="对象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6080" y="5791320"/>
                    <a:ext cx="2538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对象 17"/>
          <p:cNvGraphicFramePr/>
          <p:nvPr/>
        </p:nvGraphicFramePr>
        <p:xfrm>
          <a:off x="5311800" y="5870520"/>
          <a:ext cx="482400" cy="2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对象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11800" y="5870520"/>
                    <a:ext cx="48240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990720" y="1090440"/>
            <a:ext cx="7272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决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段圆柱形钢材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 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横截面直径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如果每立方厘米的钢材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8 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这段钢材重多少千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个圆柱形油桶，底面周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.28 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 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如果每立方米柴油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 7 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这个油桶可以装柴油多少千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2484360" y="2492280"/>
            <a:ext cx="330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.14×               ×60×7.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6738(g)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6.738(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答：这段钢材重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6.738kg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对象 1"/>
          <p:cNvGraphicFramePr/>
          <p:nvPr/>
        </p:nvGraphicFramePr>
        <p:xfrm>
          <a:off x="3375000" y="2563920"/>
          <a:ext cx="90180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75000" y="2563920"/>
                    <a:ext cx="901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8"/>
          <p:cNvSpPr/>
          <p:nvPr/>
        </p:nvSpPr>
        <p:spPr>
          <a:xfrm>
            <a:off x="2438280" y="4923000"/>
            <a:ext cx="586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.28÷2÷3.1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4×     ×3×0.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.594(t)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594(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答：这个油桶可以装柴油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594kg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对象 2"/>
          <p:cNvGraphicFramePr/>
          <p:nvPr/>
        </p:nvGraphicFramePr>
        <p:xfrm>
          <a:off x="4038480" y="5562720"/>
          <a:ext cx="2286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2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8480" y="5562720"/>
                    <a:ext cx="228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4"/>
          <p:cNvSpPr/>
          <p:nvPr/>
        </p:nvSpPr>
        <p:spPr>
          <a:xfrm>
            <a:off x="1355760" y="1170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线连接符 38"/>
          <p:cNvSpPr/>
          <p:nvPr/>
        </p:nvSpPr>
        <p:spPr>
          <a:xfrm>
            <a:off x="766800" y="1738440"/>
            <a:ext cx="7691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13" descr="课堂小结.png"/>
          <p:cNvPicPr/>
          <p:nvPr/>
        </p:nvPicPr>
        <p:blipFill>
          <a:blip r:embed="rId1"/>
          <a:stretch/>
        </p:blipFill>
        <p:spPr>
          <a:xfrm>
            <a:off x="3084480" y="176040"/>
            <a:ext cx="2583000" cy="60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1"/>
          <p:cNvGrpSpPr/>
          <p:nvPr/>
        </p:nvGrpSpPr>
        <p:grpSpPr>
          <a:xfrm>
            <a:off x="685800" y="1752480"/>
            <a:ext cx="7848720" cy="3809880"/>
            <a:chOff x="685800" y="1752480"/>
            <a:chExt cx="7848720" cy="3809880"/>
          </a:xfrm>
        </p:grpSpPr>
        <p:sp>
          <p:nvSpPr>
            <p:cNvPr id="227" name="Text Box 16"/>
            <p:cNvSpPr/>
            <p:nvPr/>
          </p:nvSpPr>
          <p:spPr>
            <a:xfrm>
              <a:off x="685800" y="1752480"/>
              <a:ext cx="784872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圆柱的体积公式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圆柱的体积＝圆柱的底面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高，用字母表示为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 h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.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方体、正方体和圆柱的统一体积公式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体积＝底面积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高，用字母表示为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 h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计算圆柱体积，如果已知半径，利用公式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 ²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计算；已知直径，利用公式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²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计算；已知周长，利用公式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 ÷ 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π ÷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²h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计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8" name="对象 2"/>
            <p:cNvGraphicFramePr/>
            <p:nvPr/>
          </p:nvGraphicFramePr>
          <p:xfrm>
            <a:off x="5389560" y="4800600"/>
            <a:ext cx="306360" cy="761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9" name="对象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89560" y="4800600"/>
                      <a:ext cx="3063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8" descr="当堂检测.png"/>
          <p:cNvPicPr/>
          <p:nvPr/>
        </p:nvPicPr>
        <p:blipFill>
          <a:blip r:embed="rId1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977760" y="1916280"/>
            <a:ext cx="39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下面各圆柱的体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"/>
          <p:cNvGrpSpPr/>
          <p:nvPr/>
        </p:nvGrpSpPr>
        <p:grpSpPr>
          <a:xfrm>
            <a:off x="655560" y="1011240"/>
            <a:ext cx="4808520" cy="642600"/>
            <a:chOff x="655560" y="1011240"/>
            <a:chExt cx="4808520" cy="642600"/>
          </a:xfrm>
        </p:grpSpPr>
        <p:pic>
          <p:nvPicPr>
            <p:cNvPr id="233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655560" y="118080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文本框 23"/>
            <p:cNvSpPr/>
            <p:nvPr/>
          </p:nvSpPr>
          <p:spPr>
            <a:xfrm>
              <a:off x="887040" y="1011240"/>
              <a:ext cx="457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1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习三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14" descr=""/>
          <p:cNvPicPr/>
          <p:nvPr/>
        </p:nvPicPr>
        <p:blipFill>
          <a:blip r:embed="rId3"/>
          <a:srcRect l="3181" t="14509" r="3658" b="11913"/>
          <a:stretch/>
        </p:blipFill>
        <p:spPr>
          <a:xfrm>
            <a:off x="635040" y="2759040"/>
            <a:ext cx="7819920" cy="1797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6548400" y="336060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5"/>
          <p:cNvSpPr/>
          <p:nvPr/>
        </p:nvSpPr>
        <p:spPr>
          <a:xfrm>
            <a:off x="6583320" y="385596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765000" y="1409760"/>
            <a:ext cx="73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圆柱形电饭煲，从里面量，底面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。这个电饭煲的容积大约是多少升？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（得数保留一位小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1447920" y="3424320"/>
            <a:ext cx="661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×2.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6.956≈17.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立方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7.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分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7.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个电饭煲的容积大约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7.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18" descr="当堂检测.png"/>
          <p:cNvPicPr/>
          <p:nvPr/>
        </p:nvPicPr>
        <p:blipFill>
          <a:blip r:embed="rId1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2"/>
          <p:cNvSpPr/>
          <p:nvPr/>
        </p:nvSpPr>
        <p:spPr>
          <a:xfrm>
            <a:off x="635040" y="1138320"/>
            <a:ext cx="5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150920" y="1752480"/>
            <a:ext cx="2598840" cy="812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2"/>
          <a:stretch/>
        </p:blipFill>
        <p:spPr>
          <a:xfrm>
            <a:off x="5092560" y="1784520"/>
            <a:ext cx="2781360" cy="796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"/>
          <p:cNvPicPr/>
          <p:nvPr/>
        </p:nvPicPr>
        <p:blipFill>
          <a:blip r:embed="rId3"/>
          <a:stretch/>
        </p:blipFill>
        <p:spPr>
          <a:xfrm>
            <a:off x="1268280" y="3846600"/>
            <a:ext cx="2568600" cy="931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"/>
          <p:cNvPicPr/>
          <p:nvPr/>
        </p:nvPicPr>
        <p:blipFill>
          <a:blip r:embed="rId4"/>
          <a:stretch/>
        </p:blipFill>
        <p:spPr>
          <a:xfrm>
            <a:off x="4917960" y="3911760"/>
            <a:ext cx="2955960" cy="8697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8" descr="当堂检测.png"/>
          <p:cNvPicPr/>
          <p:nvPr/>
        </p:nvPicPr>
        <p:blipFill>
          <a:blip r:embed="rId5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6"/>
          <p:cNvGrpSpPr/>
          <p:nvPr/>
        </p:nvGrpSpPr>
        <p:grpSpPr>
          <a:xfrm>
            <a:off x="1120680" y="2438280"/>
            <a:ext cx="1967040" cy="1401840"/>
            <a:chOff x="1120680" y="2438280"/>
            <a:chExt cx="1967040" cy="1401840"/>
          </a:xfrm>
        </p:grpSpPr>
        <p:sp>
          <p:nvSpPr>
            <p:cNvPr id="248" name="TextBox 2"/>
            <p:cNvSpPr/>
            <p:nvPr/>
          </p:nvSpPr>
          <p:spPr>
            <a:xfrm>
              <a:off x="1120680" y="2580840"/>
              <a:ext cx="19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      ＋       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对象 2"/>
            <p:cNvGraphicFramePr/>
            <p:nvPr/>
          </p:nvGraphicFramePr>
          <p:xfrm>
            <a:off x="1523520" y="2438280"/>
            <a:ext cx="380880" cy="716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0" name="对象 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3520" y="2438280"/>
                      <a:ext cx="380880" cy="71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对象 4"/>
            <p:cNvGraphicFramePr/>
            <p:nvPr/>
          </p:nvGraphicFramePr>
          <p:xfrm>
            <a:off x="2361600" y="2484000"/>
            <a:ext cx="380880" cy="716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对象 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361600" y="2484000"/>
                      <a:ext cx="38088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对象 5"/>
            <p:cNvGraphicFramePr/>
            <p:nvPr/>
          </p:nvGraphicFramePr>
          <p:xfrm>
            <a:off x="1599840" y="3124080"/>
            <a:ext cx="269640" cy="716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对象 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599840" y="3124080"/>
                      <a:ext cx="26964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5" name="组合 9"/>
          <p:cNvGrpSpPr/>
          <p:nvPr/>
        </p:nvGrpSpPr>
        <p:grpSpPr>
          <a:xfrm>
            <a:off x="4952880" y="2408400"/>
            <a:ext cx="3353040" cy="1401480"/>
            <a:chOff x="4952880" y="2408400"/>
            <a:chExt cx="3353040" cy="1401480"/>
          </a:xfrm>
        </p:grpSpPr>
        <p:grpSp>
          <p:nvGrpSpPr>
            <p:cNvPr id="256" name="组合 16"/>
            <p:cNvGrpSpPr/>
            <p:nvPr/>
          </p:nvGrpSpPr>
          <p:grpSpPr>
            <a:xfrm>
              <a:off x="4952880" y="2408400"/>
              <a:ext cx="3353040" cy="1401480"/>
              <a:chOff x="4952880" y="2408400"/>
              <a:chExt cx="3353040" cy="1401480"/>
            </a:xfrm>
          </p:grpSpPr>
          <p:sp>
            <p:nvSpPr>
              <p:cNvPr id="257" name="TextBox 2"/>
              <p:cNvSpPr/>
              <p:nvPr/>
            </p:nvSpPr>
            <p:spPr>
              <a:xfrm>
                <a:off x="4952880" y="2550960"/>
                <a:ext cx="3353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＝      ＋      －      ＋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8" name="对象 18"/>
              <p:cNvGraphicFramePr/>
              <p:nvPr/>
            </p:nvGraphicFramePr>
            <p:xfrm>
              <a:off x="5344920" y="2408400"/>
              <a:ext cx="404640" cy="71568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59" name="对象 18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344920" y="2408400"/>
                        <a:ext cx="404640" cy="7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0" name="对象 19"/>
              <p:cNvGraphicFramePr/>
              <p:nvPr/>
            </p:nvGraphicFramePr>
            <p:xfrm>
              <a:off x="6183360" y="2454120"/>
              <a:ext cx="403200" cy="7156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61" name="对象 19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6183360" y="2454120"/>
                        <a:ext cx="403200" cy="7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2" name="对象 20"/>
              <p:cNvGraphicFramePr/>
              <p:nvPr/>
            </p:nvGraphicFramePr>
            <p:xfrm>
              <a:off x="5365440" y="3094200"/>
              <a:ext cx="404640" cy="71568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263" name="对象 20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5365440" y="3094200"/>
                        <a:ext cx="404640" cy="7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64" name="对象 21"/>
            <p:cNvGraphicFramePr/>
            <p:nvPr/>
          </p:nvGraphicFramePr>
          <p:xfrm>
            <a:off x="6923160" y="2467080"/>
            <a:ext cx="403200" cy="7156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65" name="对象 21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923160" y="2467080"/>
                      <a:ext cx="403200" cy="71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6" name="对象 22"/>
            <p:cNvGraphicFramePr/>
            <p:nvPr/>
          </p:nvGraphicFramePr>
          <p:xfrm>
            <a:off x="7672680" y="2532240"/>
            <a:ext cx="403200" cy="7156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67" name="对象 22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7672680" y="2532240"/>
                      <a:ext cx="403200" cy="71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8" name="组合 23"/>
          <p:cNvGrpSpPr/>
          <p:nvPr/>
        </p:nvGrpSpPr>
        <p:grpSpPr>
          <a:xfrm>
            <a:off x="1143000" y="4778280"/>
            <a:ext cx="1967040" cy="1271520"/>
            <a:chOff x="1143000" y="4778280"/>
            <a:chExt cx="1967040" cy="1271520"/>
          </a:xfrm>
        </p:grpSpPr>
        <p:sp>
          <p:nvSpPr>
            <p:cNvPr id="269" name="TextBox 2"/>
            <p:cNvSpPr/>
            <p:nvPr/>
          </p:nvSpPr>
          <p:spPr>
            <a:xfrm>
              <a:off x="1143000" y="4790880"/>
              <a:ext cx="19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7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0" name="对象 26"/>
            <p:cNvGraphicFramePr/>
            <p:nvPr/>
          </p:nvGraphicFramePr>
          <p:xfrm>
            <a:off x="2242800" y="4778280"/>
            <a:ext cx="268200" cy="7160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271" name="对象 26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242800" y="4778280"/>
                      <a:ext cx="26820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对象 27"/>
            <p:cNvGraphicFramePr/>
            <p:nvPr/>
          </p:nvGraphicFramePr>
          <p:xfrm>
            <a:off x="1544400" y="5333760"/>
            <a:ext cx="426960" cy="7160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273" name="对象 2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1544400" y="5333760"/>
                      <a:ext cx="42696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4" name="组合 11"/>
          <p:cNvGrpSpPr/>
          <p:nvPr/>
        </p:nvGrpSpPr>
        <p:grpSpPr>
          <a:xfrm>
            <a:off x="4876920" y="4778280"/>
            <a:ext cx="3033720" cy="1278000"/>
            <a:chOff x="4876920" y="4778280"/>
            <a:chExt cx="3033720" cy="1278000"/>
          </a:xfrm>
        </p:grpSpPr>
        <p:grpSp>
          <p:nvGrpSpPr>
            <p:cNvPr id="275" name="组合 29"/>
            <p:cNvGrpSpPr/>
            <p:nvPr/>
          </p:nvGrpSpPr>
          <p:grpSpPr>
            <a:xfrm>
              <a:off x="4876920" y="4778280"/>
              <a:ext cx="3033720" cy="1278000"/>
              <a:chOff x="4876920" y="4778280"/>
              <a:chExt cx="3033720" cy="1278000"/>
            </a:xfrm>
          </p:grpSpPr>
          <p:sp>
            <p:nvSpPr>
              <p:cNvPr id="276" name="TextBox 2"/>
              <p:cNvSpPr/>
              <p:nvPr/>
            </p:nvSpPr>
            <p:spPr>
              <a:xfrm>
                <a:off x="4876920" y="4797720"/>
                <a:ext cx="3033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＝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1÷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77" name="对象 32"/>
              <p:cNvGraphicFramePr/>
              <p:nvPr/>
            </p:nvGraphicFramePr>
            <p:xfrm>
              <a:off x="5818680" y="4778280"/>
              <a:ext cx="268200" cy="71568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278" name="对象 32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5818680" y="4778280"/>
                        <a:ext cx="268200" cy="7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9" name="对象 33"/>
              <p:cNvGraphicFramePr/>
              <p:nvPr/>
            </p:nvGraphicFramePr>
            <p:xfrm>
              <a:off x="5355720" y="5340600"/>
              <a:ext cx="269640" cy="71568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280" name="对象 33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5355720" y="5340600"/>
                        <a:ext cx="269640" cy="71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81" name="对象 34"/>
            <p:cNvGraphicFramePr/>
            <p:nvPr/>
          </p:nvGraphicFramePr>
          <p:xfrm>
            <a:off x="6445440" y="4800240"/>
            <a:ext cx="245880" cy="71568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82" name="对象 34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6445440" y="4800240"/>
                      <a:ext cx="245880" cy="71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"/>
          <p:cNvSpPr/>
          <p:nvPr/>
        </p:nvSpPr>
        <p:spPr>
          <a:xfrm>
            <a:off x="830160" y="1143000"/>
            <a:ext cx="44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哪个杯里的饮料最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66840" y="1905120"/>
            <a:ext cx="5514840" cy="192852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2"/>
          <p:cNvSpPr/>
          <p:nvPr/>
        </p:nvSpPr>
        <p:spPr>
          <a:xfrm>
            <a:off x="1407960" y="3581280"/>
            <a:ext cx="590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8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00.9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×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97.8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×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96.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00.96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97.82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96.25c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左起第一个杯里饮料最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dministrator\Desktop\图片2.tif"/>
          <p:cNvPicPr/>
          <p:nvPr/>
        </p:nvPicPr>
        <p:blipFill>
          <a:blip r:embed="rId1"/>
          <a:stretch/>
        </p:blipFill>
        <p:spPr>
          <a:xfrm>
            <a:off x="3084480" y="176040"/>
            <a:ext cx="2743200" cy="638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5"/>
          <p:cNvSpPr/>
          <p:nvPr/>
        </p:nvSpPr>
        <p:spPr>
          <a:xfrm>
            <a:off x="681120" y="3352680"/>
            <a:ext cx="7781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什么叫体积？怎样求长方体的体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怎样求圆的面积？圆的面积公式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圆的面积公式是怎样推导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立方体 44"/>
          <p:cNvSpPr/>
          <p:nvPr/>
        </p:nvSpPr>
        <p:spPr>
          <a:xfrm>
            <a:off x="2959200" y="1741320"/>
            <a:ext cx="2603520" cy="137484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2"/>
          <p:cNvSpPr/>
          <p:nvPr/>
        </p:nvSpPr>
        <p:spPr>
          <a:xfrm>
            <a:off x="635040" y="1353960"/>
            <a:ext cx="54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圆柱形保温茶桶，从里面量，底面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。如果每立方分米水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这个保温茶桶能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水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6605640" y="1308240"/>
            <a:ext cx="1917720" cy="225108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1407960" y="3581280"/>
            <a:ext cx="590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3²×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41.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41.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个保温茶桶不能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2"/>
          <p:cNvSpPr/>
          <p:nvPr/>
        </p:nvSpPr>
        <p:spPr>
          <a:xfrm>
            <a:off x="635040" y="1305000"/>
            <a:ext cx="74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银行通常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硬币摞在一起，用纸卷成圆柱形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（如下图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你能算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硬币的体积大约是多少立方厘米吗？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（得数保留一位小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1173240" y="3119400"/>
            <a:ext cx="6797520" cy="152244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2"/>
          <p:cNvSpPr/>
          <p:nvPr/>
        </p:nvSpPr>
        <p:spPr>
          <a:xfrm>
            <a:off x="1619280" y="4970520"/>
            <a:ext cx="66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.5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×9.25÷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.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"/>
          <p:cNvSpPr/>
          <p:nvPr/>
        </p:nvSpPr>
        <p:spPr>
          <a:xfrm>
            <a:off x="635040" y="1353960"/>
            <a:ext cx="74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一张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、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的长方形纸分别绕它的长和宽旋转一周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（如下图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形成两个圆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0" t="18581" r="5347" b="13623"/>
          <a:stretch/>
        </p:blipFill>
        <p:spPr>
          <a:xfrm>
            <a:off x="739800" y="2644920"/>
            <a:ext cx="3643200" cy="14619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4383000" y="2646360"/>
            <a:ext cx="4700520" cy="156528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8" descr="当堂检测.png"/>
          <p:cNvPicPr/>
          <p:nvPr/>
        </p:nvPicPr>
        <p:blipFill>
          <a:blip r:embed="rId3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"/>
          <p:cNvSpPr/>
          <p:nvPr/>
        </p:nvSpPr>
        <p:spPr>
          <a:xfrm>
            <a:off x="3124080" y="434340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4²×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51.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5²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51.2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14c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1295280" y="4556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估一估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2"/>
          <p:cNvSpPr/>
          <p:nvPr/>
        </p:nvSpPr>
        <p:spPr>
          <a:xfrm>
            <a:off x="700200" y="1450800"/>
            <a:ext cx="74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圆柱型水果罐头，底面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。这个罐头瓶的容积是多少立方厘米？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（罐头瓶的厚度忽略不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18" descr="当堂检测.png"/>
          <p:cNvPicPr/>
          <p:nvPr/>
        </p:nvPicPr>
        <p:blipFill>
          <a:blip r:embed="rId1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2"/>
          <p:cNvSpPr/>
          <p:nvPr/>
        </p:nvSpPr>
        <p:spPr>
          <a:xfrm>
            <a:off x="2043000" y="3465360"/>
            <a:ext cx="61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底面半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5.12÷3.1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4²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01.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2"/>
          <p:cNvSpPr/>
          <p:nvPr/>
        </p:nvSpPr>
        <p:spPr>
          <a:xfrm>
            <a:off x="635040" y="1353960"/>
            <a:ext cx="74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找一个圆柱形茶杯，从里面量出它的高和底面直径，算出这个茶杯大约能盛水多少克。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立方厘米水重</a:t>
            </a:r>
            <a:r>
              <a:rPr b="1" lang="en-US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图片 18" descr="当堂检测.png"/>
          <p:cNvPicPr/>
          <p:nvPr/>
        </p:nvPicPr>
        <p:blipFill>
          <a:blip r:embed="rId1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3498840" y="35766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2"/>
          <p:cNvSpPr/>
          <p:nvPr/>
        </p:nvSpPr>
        <p:spPr>
          <a:xfrm>
            <a:off x="635040" y="1353960"/>
            <a:ext cx="57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下面各圆柱的表面积和体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52280" y="2301840"/>
            <a:ext cx="8844120" cy="228600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2395440" y="2849400"/>
            <a:ext cx="10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3605040" y="2849400"/>
            <a:ext cx="12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1.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6124680" y="2882880"/>
            <a:ext cx="13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19.8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"/>
          <p:cNvSpPr/>
          <p:nvPr/>
        </p:nvSpPr>
        <p:spPr>
          <a:xfrm>
            <a:off x="7675560" y="2876400"/>
            <a:ext cx="11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7c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1176480" y="330372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3473280" y="3309840"/>
            <a:ext cx="13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8.84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6041880" y="3317760"/>
            <a:ext cx="16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44.92d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7543800" y="3335400"/>
            <a:ext cx="14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82.6d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1209600" y="3762360"/>
            <a:ext cx="8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"/>
          <p:cNvSpPr/>
          <p:nvPr/>
        </p:nvSpPr>
        <p:spPr>
          <a:xfrm>
            <a:off x="2509920" y="3781440"/>
            <a:ext cx="11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6075360" y="3768840"/>
            <a:ext cx="14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7.68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7566120" y="3747960"/>
            <a:ext cx="14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.7m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635040" y="914400"/>
            <a:ext cx="744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圆柱形油桶，从里面量，底面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 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它的容积是多少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升柴油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这个油桶可装柴油多少千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18" descr="当堂检测.png"/>
          <p:cNvPicPr/>
          <p:nvPr/>
        </p:nvPicPr>
        <p:blipFill>
          <a:blip r:embed="rId1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1219320" y="3191040"/>
            <a:ext cx="69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×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2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立方分米）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2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1233360" y="2532240"/>
            <a:ext cx="46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2860560" y="4181400"/>
            <a:ext cx="42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0.85×62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3.3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9"/>
          <p:cNvSpPr/>
          <p:nvPr/>
        </p:nvSpPr>
        <p:spPr>
          <a:xfrm>
            <a:off x="609480" y="4751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80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做这样一个油桶，至少需要铁皮多少平方分米？</a:t>
            </a:r>
            <a:r>
              <a:rPr b="1" lang="zh-CN" sz="2400" spc="-1" strike="noStrike">
                <a:solidFill>
                  <a:srgbClr val="ff6699"/>
                </a:solidFill>
                <a:latin typeface="宋体"/>
                <a:ea typeface="宋体"/>
              </a:rPr>
              <a:t>（得数保留一位小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990720" y="5715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4×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87.92≈88.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2"/>
          <p:cNvSpPr/>
          <p:nvPr/>
        </p:nvSpPr>
        <p:spPr>
          <a:xfrm>
            <a:off x="635040" y="1353960"/>
            <a:ext cx="744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圆柱形水池，从里面量，地面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池里最多能蓄水多少吨？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立方米水重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宋体"/>
              </a:rPr>
              <a:t>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水池的底面和四周抹上水泥，抹水泥部分的面积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图片 18" descr="当堂检测.png"/>
          <p:cNvPicPr/>
          <p:nvPr/>
        </p:nvPicPr>
        <p:blipFill>
          <a:blip r:embed="rId1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"/>
          <p:cNvSpPr/>
          <p:nvPr/>
        </p:nvSpPr>
        <p:spPr>
          <a:xfrm>
            <a:off x="1371600" y="3048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8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×3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75.8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立方米）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×175.8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75.8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1371600" y="5373720"/>
            <a:ext cx="69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8×3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8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²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38.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2"/>
          <p:cNvSpPr/>
          <p:nvPr/>
        </p:nvSpPr>
        <p:spPr>
          <a:xfrm>
            <a:off x="635040" y="1353960"/>
            <a:ext cx="56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圆柱形蛋糕盒，底面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做这个蛋糕盒大约要用硬纸板多少平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591240" y="1353960"/>
            <a:ext cx="2224080" cy="191304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"/>
          <p:cNvSpPr/>
          <p:nvPr/>
        </p:nvSpPr>
        <p:spPr>
          <a:xfrm>
            <a:off x="685800" y="4267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彩带捆扎这个蛋糕盒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宋体"/>
              </a:rPr>
              <a:t>（如右图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少需要彩带多少厘米？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宋体"/>
              </a:rPr>
              <a:t>（打结处大约用彩带</a:t>
            </a:r>
            <a:r>
              <a:rPr b="1" lang="en-US" sz="2400" spc="-1" strike="noStrike">
                <a:solidFill>
                  <a:srgbClr val="ff66ff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宋体"/>
              </a:rPr>
              <a:t>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"/>
          <p:cNvSpPr/>
          <p:nvPr/>
        </p:nvSpPr>
        <p:spPr>
          <a:xfrm>
            <a:off x="1120680" y="3657600"/>
            <a:ext cx="69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15²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15×2×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29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1328760" y="5410080"/>
            <a:ext cx="69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×2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2"/>
          <p:cNvSpPr/>
          <p:nvPr/>
        </p:nvSpPr>
        <p:spPr>
          <a:xfrm>
            <a:off x="635040" y="1353960"/>
            <a:ext cx="74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用塑料薄膜覆盖的蔬菜大棚，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横截面是一个半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的半圆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765000" y="2852640"/>
            <a:ext cx="72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80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搭建这个大棚要用多少平方米的塑料薄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80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80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80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棚内的空间大约有多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5321160" y="1676520"/>
            <a:ext cx="3441960" cy="136044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"/>
          <p:cNvGrpSpPr/>
          <p:nvPr/>
        </p:nvGrpSpPr>
        <p:grpSpPr>
          <a:xfrm>
            <a:off x="1154160" y="3637080"/>
            <a:ext cx="7608960" cy="739800"/>
            <a:chOff x="1154160" y="3637080"/>
            <a:chExt cx="7608960" cy="739800"/>
          </a:xfrm>
        </p:grpSpPr>
        <p:grpSp>
          <p:nvGrpSpPr>
            <p:cNvPr id="344" name="组合 1"/>
            <p:cNvGrpSpPr/>
            <p:nvPr/>
          </p:nvGrpSpPr>
          <p:grpSpPr>
            <a:xfrm>
              <a:off x="1154160" y="3660120"/>
              <a:ext cx="7608960" cy="716760"/>
              <a:chOff x="1154160" y="3660120"/>
              <a:chExt cx="7608960" cy="716760"/>
            </a:xfrm>
          </p:grpSpPr>
          <p:sp>
            <p:nvSpPr>
              <p:cNvPr id="345" name="TextBox 2"/>
              <p:cNvSpPr/>
              <p:nvPr/>
            </p:nvSpPr>
            <p:spPr>
              <a:xfrm>
                <a:off x="1291680" y="3713400"/>
                <a:ext cx="747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×3.14×2×2×15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＋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2×    ×3.14×2²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＝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106.76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（平方米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46" name="对象 32"/>
              <p:cNvGraphicFramePr/>
              <p:nvPr/>
            </p:nvGraphicFramePr>
            <p:xfrm>
              <a:off x="1154160" y="3660120"/>
              <a:ext cx="268200" cy="71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7" name="对象 3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54160" y="3660120"/>
                        <a:ext cx="268200" cy="71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48" name="对象 32"/>
            <p:cNvGraphicFramePr/>
            <p:nvPr/>
          </p:nvGraphicFramePr>
          <p:xfrm>
            <a:off x="4532040" y="3637080"/>
            <a:ext cx="268200" cy="716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9" name="对象 3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32040" y="3637080"/>
                      <a:ext cx="268200" cy="71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0" name="组合 4"/>
          <p:cNvGrpSpPr/>
          <p:nvPr/>
        </p:nvGrpSpPr>
        <p:grpSpPr>
          <a:xfrm>
            <a:off x="1219320" y="5187960"/>
            <a:ext cx="5508360" cy="716040"/>
            <a:chOff x="1219320" y="5187960"/>
            <a:chExt cx="5508360" cy="716040"/>
          </a:xfrm>
        </p:grpSpPr>
        <p:sp>
          <p:nvSpPr>
            <p:cNvPr id="351" name="TextBox 2"/>
            <p:cNvSpPr/>
            <p:nvPr/>
          </p:nvSpPr>
          <p:spPr>
            <a:xfrm>
              <a:off x="1371600" y="5221080"/>
              <a:ext cx="535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×3.14×2²×1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94.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立方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2" name="对象 32"/>
            <p:cNvGraphicFramePr/>
            <p:nvPr/>
          </p:nvGraphicFramePr>
          <p:xfrm>
            <a:off x="1219320" y="5187960"/>
            <a:ext cx="268200" cy="71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3" name="对象 3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9320" y="5187960"/>
                      <a:ext cx="26820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78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47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48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82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51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52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86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55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56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90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5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6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5095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227400" y="521172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98" name="上箭头 66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上箭头 67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上箭头 68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Rectangle 2"/>
          <p:cNvSpPr/>
          <p:nvPr/>
        </p:nvSpPr>
        <p:spPr>
          <a:xfrm>
            <a:off x="1233360" y="2362320"/>
            <a:ext cx="322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柱的体积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03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07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图片 46"/>
          <p:cNvSpPr/>
          <p:nvPr/>
        </p:nvSpPr>
        <p:spPr>
          <a:xfrm>
            <a:off x="3084480" y="176040"/>
            <a:ext cx="2741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46" descr="课时总览.png"/>
          <p:cNvPicPr/>
          <p:nvPr/>
        </p:nvPicPr>
        <p:blipFill>
          <a:blip r:embed="rId1"/>
          <a:stretch/>
        </p:blipFill>
        <p:spPr>
          <a:xfrm>
            <a:off x="3236760" y="328680"/>
            <a:ext cx="27417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"/>
          <p:cNvSpPr/>
          <p:nvPr/>
        </p:nvSpPr>
        <p:spPr>
          <a:xfrm>
            <a:off x="477720" y="1547640"/>
            <a:ext cx="53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玲玲把一块长方体橡皮泥（</a:t>
            </a:r>
            <a:r>
              <a:rPr b="1" lang="zh-CN" sz="2400" spc="-1" strike="noStrike">
                <a:solidFill>
                  <a:srgbClr val="ff6699"/>
                </a:solidFill>
                <a:latin typeface="Times New Roman"/>
                <a:ea typeface="宋体"/>
              </a:rPr>
              <a:t>如右图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捏成一个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的圆柱。捏成的圆柱的底面积是多少平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6002280" y="1514520"/>
            <a:ext cx="2824200" cy="2044800"/>
          </a:xfrm>
          <a:prstGeom prst="rect">
            <a:avLst/>
          </a:prstGeom>
          <a:ln w="0">
            <a:noFill/>
          </a:ln>
        </p:spPr>
      </p:pic>
      <p:pic>
        <p:nvPicPr>
          <p:cNvPr id="356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430280" y="3809880"/>
            <a:ext cx="53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×3×4÷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"/>
          <p:cNvGrpSpPr/>
          <p:nvPr/>
        </p:nvGrpSpPr>
        <p:grpSpPr>
          <a:xfrm>
            <a:off x="477720" y="1547640"/>
            <a:ext cx="7261200" cy="1219320"/>
            <a:chOff x="477720" y="1547640"/>
            <a:chExt cx="7261200" cy="1219320"/>
          </a:xfrm>
        </p:grpSpPr>
        <p:sp>
          <p:nvSpPr>
            <p:cNvPr id="359" name="TextBox 2"/>
            <p:cNvSpPr/>
            <p:nvPr/>
          </p:nvSpPr>
          <p:spPr>
            <a:xfrm>
              <a:off x="477720" y="1547640"/>
              <a:ext cx="7261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1360" indent="-44136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6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个圆柱形水杯的容积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.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，从里面量，底面积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.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平方分米。用这个水杯装      杯水，水面高多少分米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Picture 3" descr=""/>
            <p:cNvPicPr/>
            <p:nvPr/>
          </p:nvPicPr>
          <p:blipFill>
            <a:blip r:embed="rId1"/>
            <a:stretch/>
          </p:blipFill>
          <p:spPr>
            <a:xfrm>
              <a:off x="5461560" y="2147760"/>
              <a:ext cx="34272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grpSp>
        <p:nvGrpSpPr>
          <p:cNvPr id="362" name="组合 1"/>
          <p:cNvGrpSpPr/>
          <p:nvPr/>
        </p:nvGrpSpPr>
        <p:grpSpPr>
          <a:xfrm>
            <a:off x="2379600" y="3483000"/>
            <a:ext cx="3252960" cy="1741320"/>
            <a:chOff x="2379600" y="3483000"/>
            <a:chExt cx="3252960" cy="1741320"/>
          </a:xfrm>
        </p:grpSpPr>
        <p:sp>
          <p:nvSpPr>
            <p:cNvPr id="363" name="TextBox 2"/>
            <p:cNvSpPr/>
            <p:nvPr/>
          </p:nvSpPr>
          <p:spPr>
            <a:xfrm>
              <a:off x="2379600" y="3484440"/>
              <a:ext cx="3252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.6×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.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升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.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升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.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立方分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.2÷1.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分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4" name="对象 32"/>
            <p:cNvGraphicFramePr/>
            <p:nvPr/>
          </p:nvGraphicFramePr>
          <p:xfrm>
            <a:off x="3188880" y="3483000"/>
            <a:ext cx="268200" cy="71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5" name="对象 3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88880" y="3483000"/>
                      <a:ext cx="268200" cy="7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768240" y="1166760"/>
            <a:ext cx="7607520" cy="489132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1523880" y="3171960"/>
            <a:ext cx="67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5²×8÷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28÷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57×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4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立方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1044720" y="1916280"/>
            <a:ext cx="7630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6278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判断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的画“√”，错的画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×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6278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柱的体积一定比表面积大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6278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圆柱的高不变，底面半径扩大到原来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倍，体积就扩大到原来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倍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6278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果两个圆柱的体积相等，那么它们的高也相等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50000"/>
              </a:lnSpc>
              <a:tabLst>
                <a:tab algn="l" pos="0"/>
                <a:tab algn="l" pos="6278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长方体、正方体、圆柱的体积都可以用底面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高来计算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9"/>
          <p:cNvGrpSpPr/>
          <p:nvPr/>
        </p:nvGrpSpPr>
        <p:grpSpPr>
          <a:xfrm>
            <a:off x="871560" y="1248120"/>
            <a:ext cx="4757760" cy="642600"/>
            <a:chOff x="871560" y="1248120"/>
            <a:chExt cx="4757760" cy="642600"/>
          </a:xfrm>
        </p:grpSpPr>
        <p:pic>
          <p:nvPicPr>
            <p:cNvPr id="37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871560" y="145260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文本框 23"/>
            <p:cNvSpPr/>
            <p:nvPr/>
          </p:nvSpPr>
          <p:spPr>
            <a:xfrm>
              <a:off x="1133280" y="124812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易错辨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Box 13"/>
          <p:cNvSpPr/>
          <p:nvPr/>
        </p:nvSpPr>
        <p:spPr>
          <a:xfrm>
            <a:off x="7356600" y="2492280"/>
            <a:ext cx="8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9"/>
          <p:cNvSpPr/>
          <p:nvPr/>
        </p:nvSpPr>
        <p:spPr>
          <a:xfrm>
            <a:off x="7356600" y="3429000"/>
            <a:ext cx="8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0"/>
          <p:cNvSpPr/>
          <p:nvPr/>
        </p:nvSpPr>
        <p:spPr>
          <a:xfrm>
            <a:off x="7380360" y="3879720"/>
            <a:ext cx="8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1"/>
          <p:cNvSpPr/>
          <p:nvPr/>
        </p:nvSpPr>
        <p:spPr>
          <a:xfrm>
            <a:off x="7362720" y="477504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2"/>
          <p:cNvSpPr/>
          <p:nvPr/>
        </p:nvSpPr>
        <p:spPr>
          <a:xfrm>
            <a:off x="1332000" y="5229360"/>
            <a:ext cx="6918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辨析：没有正确理解体积公式而引起的误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6211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50720" y="1828800"/>
            <a:ext cx="540000" cy="5745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2"/>
          <p:cNvSpPr/>
          <p:nvPr/>
        </p:nvSpPr>
        <p:spPr>
          <a:xfrm>
            <a:off x="540720" y="189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93680" y="18954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长方体、正方体和圆柱的底面积相等，高也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1"/>
          <p:cNvGrpSpPr/>
          <p:nvPr/>
        </p:nvGrpSpPr>
        <p:grpSpPr>
          <a:xfrm>
            <a:off x="460440" y="981000"/>
            <a:ext cx="4873680" cy="732960"/>
            <a:chOff x="460440" y="981000"/>
            <a:chExt cx="4873680" cy="732960"/>
          </a:xfrm>
        </p:grpSpPr>
        <p:sp>
          <p:nvSpPr>
            <p:cNvPr id="118" name="文本框 13"/>
            <p:cNvSpPr/>
            <p:nvPr/>
          </p:nvSpPr>
          <p:spPr>
            <a:xfrm>
              <a:off x="1638360" y="1071360"/>
              <a:ext cx="3695760" cy="642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 圆柱的体积公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460440" y="98100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2" descr=""/>
          <p:cNvPicPr/>
          <p:nvPr/>
        </p:nvPicPr>
        <p:blipFill>
          <a:blip r:embed="rId4"/>
          <a:stretch/>
        </p:blipFill>
        <p:spPr>
          <a:xfrm>
            <a:off x="1219320" y="2565360"/>
            <a:ext cx="6350040" cy="1567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838080" y="426708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长方体和正方体的体积相等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猜一猜，圆柱的体积与长方体、正方体的体积相等吗？用什么办法验证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3"/>
          <p:cNvGrpSpPr/>
          <p:nvPr/>
        </p:nvGrpSpPr>
        <p:grpSpPr>
          <a:xfrm>
            <a:off x="2590920" y="838080"/>
            <a:ext cx="6114960" cy="2138400"/>
            <a:chOff x="2590920" y="838080"/>
            <a:chExt cx="6114960" cy="213840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7772400" y="1725120"/>
              <a:ext cx="933480" cy="125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云形标注 1"/>
            <p:cNvSpPr/>
            <p:nvPr/>
          </p:nvSpPr>
          <p:spPr>
            <a:xfrm>
              <a:off x="2590920" y="838080"/>
              <a:ext cx="4191120" cy="1748160"/>
            </a:xfrm>
            <a:prstGeom prst="cloudCallout">
              <a:avLst>
                <a:gd name="adj1" fmla="val 73907"/>
                <a:gd name="adj2" fmla="val 32499"/>
              </a:avLst>
            </a:prstGeom>
            <a:solidFill>
              <a:srgbClr val="ffccff"/>
            </a:solidFill>
            <a:ln w="9360">
              <a:solidFill>
                <a:srgbClr val="ff99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3037320" y="973080"/>
              <a:ext cx="3592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圆可以转化成近似的长方形计算面积，圆柱可以转化成近似的长方体计算面积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6"/>
          <p:cNvSpPr/>
          <p:nvPr/>
        </p:nvSpPr>
        <p:spPr>
          <a:xfrm>
            <a:off x="507960" y="2743200"/>
            <a:ext cx="81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圆柱的底面平均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份，切开后照下图的样子拼一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293760" y="3454560"/>
            <a:ext cx="1635120" cy="1982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1941480" y="4132440"/>
            <a:ext cx="866880" cy="628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2666880" y="3394080"/>
            <a:ext cx="1444680" cy="229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4952880" y="3772080"/>
            <a:ext cx="1673280" cy="144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6"/>
          <a:stretch/>
        </p:blipFill>
        <p:spPr>
          <a:xfrm>
            <a:off x="4114800" y="4191120"/>
            <a:ext cx="838080" cy="48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7"/>
          <a:srcRect l="0" t="0" r="19774" b="0"/>
          <a:stretch/>
        </p:blipFill>
        <p:spPr>
          <a:xfrm>
            <a:off x="8185320" y="5160960"/>
            <a:ext cx="896760" cy="1082520"/>
          </a:xfrm>
          <a:prstGeom prst="rect">
            <a:avLst/>
          </a:prstGeom>
          <a:ln w="0">
            <a:noFill/>
          </a:ln>
        </p:spPr>
      </p:pic>
      <p:sp>
        <p:nvSpPr>
          <p:cNvPr id="133" name="圆角矩形标注 5"/>
          <p:cNvSpPr/>
          <p:nvPr/>
        </p:nvSpPr>
        <p:spPr>
          <a:xfrm>
            <a:off x="5789520" y="5160960"/>
            <a:ext cx="1981440" cy="884160"/>
          </a:xfrm>
          <a:prstGeom prst="wedgeRoundRectCallout">
            <a:avLst>
              <a:gd name="adj1" fmla="val 74662"/>
              <a:gd name="adj2" fmla="val 33157"/>
              <a:gd name="adj3" fmla="val 16667"/>
            </a:avLst>
          </a:prstGeom>
          <a:solidFill>
            <a:srgbClr val="ceceef"/>
          </a:solidFill>
          <a:ln w="9360">
            <a:solidFill>
              <a:srgbClr val="6b6bc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791320" y="5079960"/>
            <a:ext cx="2038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拼成了一个近似的长方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9" descr="探索新知.png"/>
          <p:cNvPicPr/>
          <p:nvPr/>
        </p:nvPicPr>
        <p:blipFill>
          <a:blip r:embed="rId8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685800" y="1371600"/>
            <a:ext cx="81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圆柱的底面平均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份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····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切开后拼成的物体会有什么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2"/>
          <p:cNvGrpSpPr/>
          <p:nvPr/>
        </p:nvGrpSpPr>
        <p:grpSpPr>
          <a:xfrm>
            <a:off x="3886200" y="2185920"/>
            <a:ext cx="4678200" cy="1359000"/>
            <a:chOff x="3886200" y="2185920"/>
            <a:chExt cx="4678200" cy="135900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7696080" y="2516400"/>
              <a:ext cx="86832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圆角矩形标注 3"/>
            <p:cNvSpPr/>
            <p:nvPr/>
          </p:nvSpPr>
          <p:spPr>
            <a:xfrm>
              <a:off x="3886200" y="2261880"/>
              <a:ext cx="3378240" cy="884520"/>
            </a:xfrm>
            <a:prstGeom prst="wedgeRoundRectCallout">
              <a:avLst>
                <a:gd name="adj1" fmla="val 63472"/>
                <a:gd name="adj2" fmla="val 27805"/>
                <a:gd name="adj3" fmla="val 16667"/>
              </a:avLst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3886200" y="2185920"/>
              <a:ext cx="3378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平均分成的份数越多，拼成的物体就越接近长方体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6"/>
          <p:cNvSpPr/>
          <p:nvPr/>
        </p:nvSpPr>
        <p:spPr>
          <a:xfrm>
            <a:off x="507960" y="342900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拼成的长方体与原来的圆柱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65280" y="4038480"/>
            <a:ext cx="821196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圆角矩形标注 8"/>
          <p:cNvSpPr/>
          <p:nvPr/>
        </p:nvSpPr>
        <p:spPr>
          <a:xfrm>
            <a:off x="990720" y="4303800"/>
            <a:ext cx="2286000" cy="884160"/>
          </a:xfrm>
          <a:prstGeom prst="wedgeRoundRectCallout">
            <a:avLst>
              <a:gd name="adj1" fmla="val 8300"/>
              <a:gd name="adj2" fmla="val 99162"/>
              <a:gd name="adj3" fmla="val 16667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标注 9"/>
          <p:cNvSpPr/>
          <p:nvPr/>
        </p:nvSpPr>
        <p:spPr>
          <a:xfrm>
            <a:off x="3657600" y="4267080"/>
            <a:ext cx="2286000" cy="884520"/>
          </a:xfrm>
          <a:prstGeom prst="wedgeRoundRectCallout">
            <a:avLst>
              <a:gd name="adj1" fmla="val -6990"/>
              <a:gd name="adj2" fmla="val 83106"/>
              <a:gd name="adj3" fmla="val 16667"/>
            </a:avLst>
          </a:prstGeom>
          <a:solidFill>
            <a:srgbClr val="e4f3f4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标注 10"/>
          <p:cNvSpPr/>
          <p:nvPr/>
        </p:nvSpPr>
        <p:spPr>
          <a:xfrm>
            <a:off x="6624720" y="4221000"/>
            <a:ext cx="1939680" cy="884520"/>
          </a:xfrm>
          <a:prstGeom prst="wedgeRoundRectCallout">
            <a:avLst>
              <a:gd name="adj1" fmla="val -3949"/>
              <a:gd name="adj2" fmla="val 79541"/>
              <a:gd name="adj3" fmla="val 16667"/>
            </a:avLst>
          </a:prstGeom>
          <a:solidFill>
            <a:srgbClr val="ceceef"/>
          </a:solidFill>
          <a:ln w="9360">
            <a:solidFill>
              <a:srgbClr val="22226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990720" y="4221000"/>
            <a:ext cx="228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的体积与圆柱的体积相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657600" y="4191120"/>
            <a:ext cx="228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的底面积等于圆柱的底面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553080" y="4118040"/>
            <a:ext cx="2011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体的高等于圆柱的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29" descr="探索新知.png"/>
          <p:cNvPicPr/>
          <p:nvPr/>
        </p:nvPicPr>
        <p:blipFill>
          <a:blip r:embed="rId3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6"/>
          <p:cNvSpPr/>
          <p:nvPr/>
        </p:nvSpPr>
        <p:spPr>
          <a:xfrm>
            <a:off x="495360" y="1295280"/>
            <a:ext cx="81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上面的实验和讨论，想一想，可以怎样求圆柱的体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981080" y="2133720"/>
            <a:ext cx="43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柱的体积＝底面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42960" y="2779560"/>
            <a:ext cx="81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圆柱的体积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圆柱的底面积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圆柱的高，圆柱的体积公式可以写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193920" y="3979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6713640" y="3503520"/>
            <a:ext cx="2104920" cy="228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884160" y="4572000"/>
            <a:ext cx="1249560" cy="1517760"/>
          </a:xfrm>
          <a:prstGeom prst="rect">
            <a:avLst/>
          </a:prstGeom>
          <a:ln w="0">
            <a:noFill/>
          </a:ln>
        </p:spPr>
      </p:pic>
      <p:sp>
        <p:nvSpPr>
          <p:cNvPr id="156" name="圆角矩形标注 7"/>
          <p:cNvSpPr/>
          <p:nvPr/>
        </p:nvSpPr>
        <p:spPr>
          <a:xfrm>
            <a:off x="2482920" y="4800600"/>
            <a:ext cx="2851200" cy="884160"/>
          </a:xfrm>
          <a:prstGeom prst="wedgeRoundRectCallout">
            <a:avLst>
              <a:gd name="adj1" fmla="val -60189"/>
              <a:gd name="adj2" fmla="val -15009"/>
              <a:gd name="adj3" fmla="val 16667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82920" y="4734000"/>
            <a:ext cx="285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回顾圆柱体积公式的探索过程，你有什么体会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9" descr="探索新知.png"/>
          <p:cNvPicPr/>
          <p:nvPr/>
        </p:nvPicPr>
        <p:blipFill>
          <a:blip r:embed="rId3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65240" y="1981080"/>
            <a:ext cx="8877240" cy="2476800"/>
          </a:xfrm>
          <a:prstGeom prst="rect">
            <a:avLst/>
          </a:prstGeom>
          <a:ln w="0">
            <a:noFill/>
          </a:ln>
        </p:spPr>
      </p:pic>
      <p:sp>
        <p:nvSpPr>
          <p:cNvPr id="160" name="圆角矩形标注 2"/>
          <p:cNvSpPr/>
          <p:nvPr/>
        </p:nvSpPr>
        <p:spPr>
          <a:xfrm>
            <a:off x="228600" y="2133720"/>
            <a:ext cx="2743200" cy="928440"/>
          </a:xfrm>
          <a:prstGeom prst="wedgeRoundRectCallout">
            <a:avLst>
              <a:gd name="adj1" fmla="val 4504"/>
              <a:gd name="adj2" fmla="val 108083"/>
              <a:gd name="adj3" fmla="val 16667"/>
            </a:avLst>
          </a:prstGeom>
          <a:solidFill>
            <a:srgbClr val="ffccff"/>
          </a:solidFill>
          <a:ln w="9360">
            <a:solidFill>
              <a:srgbClr val="ff99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52280" y="2048040"/>
            <a:ext cx="2819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用长方体体积公式推导出圆柱体积公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标注 4"/>
          <p:cNvSpPr/>
          <p:nvPr/>
        </p:nvSpPr>
        <p:spPr>
          <a:xfrm>
            <a:off x="2984400" y="2112840"/>
            <a:ext cx="2851200" cy="884520"/>
          </a:xfrm>
          <a:prstGeom prst="wedgeRoundRectCallout">
            <a:avLst>
              <a:gd name="adj1" fmla="val 24412"/>
              <a:gd name="adj2" fmla="val 81324"/>
              <a:gd name="adj3" fmla="val 16667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895480" y="2057400"/>
            <a:ext cx="3124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把圆柱转化成长方体，与探索圆面积的方法类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标注 6"/>
          <p:cNvSpPr/>
          <p:nvPr/>
        </p:nvSpPr>
        <p:spPr>
          <a:xfrm>
            <a:off x="6039000" y="1940040"/>
            <a:ext cx="2850840" cy="1279440"/>
          </a:xfrm>
          <a:prstGeom prst="wedgeRoundRectCallout">
            <a:avLst>
              <a:gd name="adj1" fmla="val 32152"/>
              <a:gd name="adj2" fmla="val 73555"/>
              <a:gd name="adj3" fmla="val 16667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943600" y="1798560"/>
            <a:ext cx="3200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长方体、正方体、圆柱的体积都可以用底面积乘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"/>
          <p:cNvGrpSpPr/>
          <p:nvPr/>
        </p:nvGrpSpPr>
        <p:grpSpPr>
          <a:xfrm>
            <a:off x="257040" y="1105200"/>
            <a:ext cx="4784760" cy="642600"/>
            <a:chOff x="257040" y="1105200"/>
            <a:chExt cx="4784760" cy="642600"/>
          </a:xfrm>
        </p:grpSpPr>
        <p:pic>
          <p:nvPicPr>
            <p:cNvPr id="16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257040" y="1308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文本框 23"/>
            <p:cNvSpPr/>
            <p:nvPr/>
          </p:nvSpPr>
          <p:spPr>
            <a:xfrm>
              <a:off x="518760" y="1105200"/>
              <a:ext cx="452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P16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试一试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6"/>
          <p:cNvSpPr/>
          <p:nvPr/>
        </p:nvSpPr>
        <p:spPr>
          <a:xfrm>
            <a:off x="428760" y="2133720"/>
            <a:ext cx="58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圆柱形零件，底面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。这个零件的体积是多少立方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6553080" y="1884240"/>
            <a:ext cx="2414880" cy="16988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29" descr="探索新知.png"/>
          <p:cNvPicPr/>
          <p:nvPr/>
        </p:nvPicPr>
        <p:blipFill>
          <a:blip r:embed="rId3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1216080" y="3657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.14×5²×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2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m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cp:keywords/>
  <dc:language>en-US</dc:language>
  <cp:lastModifiedBy>Sky123.Org</cp:lastModifiedBy>
  <dcterms:modified xsi:type="dcterms:W3CDTF">2018-01-14T11:39:59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